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E80-C3B5-4CEE-973D-5335BAAE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685-43A7-4592-88D0-028CC7D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9A-DEF1-4EBE-9DED-6A8E2FD3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19C-F1E2-4CC7-8B58-27F4FDCC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E92-FF1B-4077-927A-C57E9C62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0966-9E63-4A84-B657-9F05734D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545-A04A-4068-B387-B882DA54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C64-32F1-4D0F-AB98-CDB7BA0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EF5D-B139-497E-A512-BC2305C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693-4389-43C0-BE9B-33C8E8B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6DCB-DCA6-458D-A5D0-F523192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668-A4B6-475F-9D4B-3C9CF439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647A-E9E2-4ABD-A7EB-326990A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CA2-11B8-4E06-97F9-618D438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AD01-3653-4E28-B6C1-CD339D9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3DA3-A361-46D0-93BB-7CF1CC23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4D07-40A9-4894-BF65-BE5C9E84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A9C-E14E-4953-B3CB-F02746A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166-A1A6-4117-904C-810E636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293-CD9D-45B0-A392-53EA280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D63-009A-4F09-96F0-B4487F2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79C-BDE7-4A02-863C-37A2F3F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F79-82FC-4683-9744-ABBE62B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68A-2AF2-424A-903B-3AA7DEAF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AA87-7DF0-4C67-9682-E3F7A3B7FB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990-00DE-4C80-84B8-E9B44E2E0DC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0.3 The Half-Reaction Method for Balancing Equ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H4U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8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Ag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5Ag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5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62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5Ag + 8H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5e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MnO</a:t>
            </a:r>
            <a:r>
              <a:rPr b="0" lang="en-US" sz="25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5Ag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5e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+ Mn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5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1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5Ag + 8H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+ 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MnO</a:t>
            </a:r>
            <a:r>
              <a:rPr b="0" lang="en-US" sz="2900" spc="-1" strike="noStrike" baseline="-25000">
                <a:solidFill>
                  <a:srgbClr val="33ccff"/>
                </a:solidFill>
                <a:latin typeface="Arial"/>
              </a:rPr>
              <a:t>4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-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 5Ag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+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Mn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2+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4H</a:t>
            </a:r>
            <a:r>
              <a:rPr b="0" lang="en-US" sz="2900" spc="-1" strike="noStrike" baseline="-25000">
                <a:solidFill>
                  <a:srgbClr val="33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O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42900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3657600"/>
            <a:ext cx="53316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3657600"/>
            <a:ext cx="53316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62 # 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68 # 2a, 3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73 # 6a, 7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f-Reaction:  describes either the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oxid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redu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REDOX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id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2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t Rea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724280"/>
            <a:ext cx="7010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ed Half Reactions and Net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t Rea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lan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 electrons lost        </a:t>
            </a: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2 electrons gain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812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58128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304776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0" cy="1600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648320"/>
            <a:ext cx="152388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3124080"/>
            <a:ext cx="0" cy="15242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581280"/>
            <a:ext cx="0" cy="1752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4648320"/>
            <a:ext cx="0" cy="68580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Acidic Medi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ite unbalanced half-re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all atom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EXCEPT for O a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O by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dding 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H by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adding H</a:t>
            </a:r>
            <a:r>
              <a:rPr b="0" lang="en-US" sz="3200" spc="-1" strike="noStrike" baseline="30000">
                <a:solidFill>
                  <a:srgbClr val="3366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the charges by adding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Acid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(add wat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(add H 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6e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+ 6H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+ ClO</a:t>
            </a:r>
            <a:r>
              <a:rPr b="0" lang="en-US" sz="3000" spc="-1" strike="noStrike" baseline="-25000">
                <a:solidFill>
                  <a:srgbClr val="ffcc00"/>
                </a:solidFill>
                <a:latin typeface="Times New Roman"/>
              </a:rPr>
              <a:t>3 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Cl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  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+ 3H</a:t>
            </a:r>
            <a:r>
              <a:rPr b="0" lang="en-US" sz="30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(add electrons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952880"/>
            <a:ext cx="0" cy="60984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Bas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rite unbalanced half-re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all atoms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XCEPT for O and 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O b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ding 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H by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adding 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BOTH sides, add as man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re ad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mplif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f po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ove exces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rom both si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the charges by adding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Bas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+ 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3e</a:t>
            </a:r>
            <a:r>
              <a:rPr b="0" lang="en-US" sz="2800" spc="-1" strike="noStrike" baseline="30000">
                <a:solidFill>
                  <a:srgbClr val="33cc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33cc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+ 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4H</a:t>
            </a:r>
            <a:r>
              <a:rPr b="0" lang="en-US" sz="31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+ 3e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+MnO</a:t>
            </a:r>
            <a:r>
              <a:rPr b="0" lang="en-US" sz="31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1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3100" spc="-1" strike="noStrike">
                <a:solidFill>
                  <a:srgbClr val="3366cc"/>
                </a:solidFill>
                <a:latin typeface="Arial"/>
              </a:rPr>
              <a:t>2H</a:t>
            </a:r>
            <a:r>
              <a:rPr b="0" lang="en-US" sz="3100" spc="-1" strike="noStrike" baseline="-25000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+ 4OH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 + 3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+ Mn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+ 4OH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352680"/>
            <a:ext cx="1905120" cy="533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505320"/>
            <a:ext cx="380880" cy="1828800"/>
          </a:xfrm>
          <a:custGeom>
            <a:avLst/>
            <a:gdLst>
              <a:gd name="textAreaLeft" fmla="*/ 50760 w 380880"/>
              <a:gd name="textAreaRight" fmla="*/ 330120 w 3808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lectrons are neither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create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nor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destroy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Electrons lost = Electrons gain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reak the reaction into 2 half-reac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lance the half-reactions separatel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ultiply both by the lowest common multip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mbine the two half-reac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mplify by removing electrons and excess speci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Ag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Ag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cidic condi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819520"/>
            <a:ext cx="30481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g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g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e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balanc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 a 5e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ransfe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5Ag </a:t>
            </a:r>
            <a:r>
              <a:rPr b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5Ag+ + 5e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819520"/>
            <a:ext cx="4800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8H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H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e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 MnO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Mn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 4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6:13Z</dcterms:created>
  <dc:creator>Leslie Fradkin</dc:creator>
  <dc:description/>
  <dc:language>en-US</dc:language>
  <cp:lastModifiedBy>FradkiL</cp:lastModifiedBy>
  <cp:lastPrinted>2005-05-25T14:04:29Z</cp:lastPrinted>
  <dcterms:modified xsi:type="dcterms:W3CDTF">2009-05-08T17:45:38Z</dcterms:modified>
  <cp:revision>15</cp:revision>
  <dc:subject/>
  <dc:title>10.3 The Half-Reaction Method for Balancing Equations</dc:title>
</cp:coreProperties>
</file>